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slider22.wav" ContentType="audio/x-wav"/>
  <Override PartName="/ppt/media/bserie06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D9C-75C6-44B9-8B2C-931E3BB7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12E-5283-440B-9435-0F0A3B0F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DF0-66CB-47E0-84FE-AC1CC5AB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6EF-787C-478D-9900-44DCB6AA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0C6-0136-4294-9002-AF90DF8A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471-B99F-4F16-9E4F-D78E0E9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10B-E764-4F68-A2DA-6BCC7065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478-91E1-40E4-A8D8-E44E202B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31D-8DF1-49DC-AFD5-B4CB293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C3D-FB5B-42CE-AEA5-DD910EA3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176-B0B9-450D-B3A9-56220666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611-0F56-4603-A1C6-990EFA3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DB95-9A23-4B7C-ACC8-317FE3F6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zipdn102.wav"/><Relationship Id="rId11" Type="http://schemas.openxmlformats.org/officeDocument/2006/relationships/audio" Target="../media/hzipup01.wav"/><Relationship Id="rId12" Type="http://schemas.openxmlformats.org/officeDocument/2006/relationships/audio" Target="../media/zipdn102.wav"/><Relationship Id="rId13" Type="http://schemas.openxmlformats.org/officeDocument/2006/relationships/audio" Target="../media/hzipup01.wav"/><Relationship Id="rId14" Type="http://schemas.openxmlformats.org/officeDocument/2006/relationships/audio" Target="../media/zipdn102.wav"/><Relationship Id="rId15" Type="http://schemas.openxmlformats.org/officeDocument/2006/relationships/audio" Target="../media/hzipup01.wav"/><Relationship Id="rId16" Type="http://schemas.openxmlformats.org/officeDocument/2006/relationships/audio" Target="../media/zipdn102.wav"/><Relationship Id="rId17" Type="http://schemas.openxmlformats.org/officeDocument/2006/relationships/audio" Target="../media/caralarmoff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hzipup01.wav"/><Relationship Id="rId9" Type="http://schemas.openxmlformats.org/officeDocument/2006/relationships/audio" Target="../media/zipdn102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caralarmoff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hzipup01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zipdn102.wav"/><Relationship Id="rId18" Type="http://schemas.openxmlformats.org/officeDocument/2006/relationships/audio" Target="../media/caralarmoff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caralarmoff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slider22.wav"/><Relationship Id="rId9" Type="http://schemas.openxmlformats.org/officeDocument/2006/relationships/audio" Target="../media/caralarmoff.wav"/><Relationship Id="rId10" Type="http://schemas.openxmlformats.org/officeDocument/2006/relationships/audio" Target="../media/hzipup01.wav"/><Relationship Id="rId11" Type="http://schemas.openxmlformats.org/officeDocument/2006/relationships/audio" Target="../media/zipdn102.wav"/><Relationship Id="rId12" Type="http://schemas.openxmlformats.org/officeDocument/2006/relationships/audio" Target="../media/hzipup01.wav"/><Relationship Id="rId13" Type="http://schemas.openxmlformats.org/officeDocument/2006/relationships/audio" Target="../media/zipdn102.wav"/><Relationship Id="rId14" Type="http://schemas.openxmlformats.org/officeDocument/2006/relationships/audio" Target="../media/caralarmoff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1204920" y="4154400"/>
                <a:ext cx="522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865160" y="3236760"/>
                <a:ext cx="128124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473200" y="4132440"/>
                <a:ext cx="47484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5360" y="1430280"/>
                <a:ext cx="29098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321300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 flipV="1">
            <a:off x="1189080" y="342576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60640" y="424800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 flipV="1">
            <a:off x="2403360" y="422280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55560" y="5084640"/>
                <a:ext cx="126216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344600" y="5972040"/>
                <a:ext cx="3571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927080" y="5576760"/>
                <a:ext cx="93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04960" y="429408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 flipV="1">
            <a:off x="1154160" y="42433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0200" y="323064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 flipV="1">
            <a:off x="2397240" y="3460680"/>
            <a:ext cx="57600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28680" y="4130640"/>
                <a:ext cx="4748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865160" y="3236760"/>
                <a:ext cx="128124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73200" y="4132440"/>
                <a:ext cx="474840" cy="71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5360" y="1430280"/>
                <a:ext cx="29098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6920" y="321300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1189080" y="342576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960640" y="424800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 flipV="1">
            <a:off x="2403360" y="422280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55560" y="5084640"/>
                <a:ext cx="126216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44600" y="5972040"/>
                <a:ext cx="3571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27080" y="5599080"/>
                <a:ext cx="936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804960" y="429408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 flipV="1">
            <a:off x="1154160" y="42433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017880" y="3252960"/>
                <a:ext cx="4935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 flipV="1">
            <a:off x="2397240" y="3460680"/>
            <a:ext cx="57600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01480" y="5146560"/>
                <a:ext cx="185292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12920" y="5146560"/>
                <a:ext cx="85716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93560" y="3238560"/>
                <a:ext cx="14274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228680" y="4130640"/>
                <a:ext cx="4748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843200" y="3236760"/>
                <a:ext cx="132696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449440" y="4154400"/>
                <a:ext cx="52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3040" y="1430280"/>
                <a:ext cx="295596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79320" y="5141880"/>
                <a:ext cx="4510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V="1">
            <a:off x="1143000" y="5362200"/>
            <a:ext cx="592200" cy="446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30400" y="6033960"/>
                <a:ext cx="4478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 flipV="1">
            <a:off x="2317680" y="619128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98760" y="528804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04352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96960" y="623088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1166760" y="61801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97360" y="5249880"/>
                <a:ext cx="358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V="1">
            <a:off x="2325600" y="5429160"/>
            <a:ext cx="57636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49360" y="5170320"/>
                <a:ext cx="175716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32080" y="5146560"/>
                <a:ext cx="6192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04920" y="4154400"/>
                <a:ext cx="522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84320" y="3236760"/>
                <a:ext cx="104292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06680" y="4154400"/>
                <a:ext cx="522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3040" y="1452600"/>
                <a:ext cx="29559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760" y="528804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04352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96960" y="6230880"/>
                <a:ext cx="49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V="1">
            <a:off x="1166760" y="6180120"/>
            <a:ext cx="53352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97360" y="5249880"/>
                <a:ext cx="358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2325600" y="5429160"/>
            <a:ext cx="57636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1680" y="5765760"/>
                <a:ext cx="8478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37160" y="5288040"/>
                <a:ext cx="7668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67540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66720" y="5146560"/>
                <a:ext cx="152100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355840" y="5146560"/>
                <a:ext cx="57168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1440" y="3238560"/>
                <a:ext cx="133164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28680" y="4130640"/>
                <a:ext cx="4748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84320" y="3236760"/>
                <a:ext cx="1042920" cy="185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76520" y="4154400"/>
                <a:ext cx="380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 or Div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5200" y="1444680"/>
                <a:ext cx="254016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79960" y="909720"/>
            <a:ext cx="4724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hange to improper fractions and multiply or divi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5400" y="2043000"/>
            <a:ext cx="4313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Cross-Cancel                         Divide top and bottom by common fa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9120" y="3448080"/>
            <a:ext cx="538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Multiply across the top and bottom. Change to a mixed number and reduce if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398760" y="5288040"/>
                <a:ext cx="12621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043520" y="6153120"/>
                <a:ext cx="447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836640" y="517032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flipV="1">
            <a:off x="1195560" y="5308560"/>
            <a:ext cx="533160" cy="488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954160" y="6048360"/>
                <a:ext cx="358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V="1">
            <a:off x="2295360" y="6270480"/>
            <a:ext cx="576360" cy="401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27, 9 – 4 #1-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8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07T18:52:27Z</dcterms:modified>
  <cp:revision>115</cp:revision>
  <dc:subject/>
  <dc:title>Slide 1</dc:title>
</cp:coreProperties>
</file>